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C39-74F6-4920-8939-0039B196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F72-CC06-482B-A2C2-46F6BD10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9F0-50BB-443B-88D1-270CB3A7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57D-C557-4D70-8108-D426D5EE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C6D-0365-4085-AAA1-8B539672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FA0-8E74-4B59-825F-800C4CD0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6CAE-4709-4AE9-99CE-02CD9B02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130-178A-462D-A425-964A9E8F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C21-B1E2-4243-A51F-C387644D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DE8-4717-40BD-8584-5A25F37E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256-81E8-4F6D-8788-095BA5C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31D-DDD8-453F-9BB2-F0485DA2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AD43-1C8D-408B-B124-DD15B3DFE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arton\My Documents\works\rubyKaigi 2006\agenda.ht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arton\My Documents\works\rubyKaigi 2006\JSRubyize.hta" TargetMode="External"/><Relationship Id="rId3" Type="http://schemas.openxmlformats.org/officeDocument/2006/relationships/hyperlink" Target="C:\Documents and Settings\arton\My Documents\works\rubyKaigi 2006\VBSRubyize.hta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z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による言語境界の越え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anner" descr=""/>
          <p:cNvPicPr/>
          <p:nvPr/>
        </p:nvPicPr>
        <p:blipFill>
          <a:blip r:embed="rId1"/>
          <a:stretch/>
        </p:blipFill>
        <p:spPr>
          <a:xfrm>
            <a:off x="3924360" y="3141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tiveScriptH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直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をホストするより簡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スクリプトニュートラ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6877080" y="476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Less" w="21600" h="21643">
                <a:moveTo>
                  <a:pt x="5273" y="4007"/>
                </a:moveTo>
                <a:lnTo>
                  <a:pt x="12271" y="4007"/>
                </a:lnTo>
                <a:lnTo>
                  <a:pt x="16327" y="7505"/>
                </a:lnTo>
                <a:lnTo>
                  <a:pt x="16327" y="17637"/>
                </a:lnTo>
                <a:lnTo>
                  <a:pt x="5273" y="17637"/>
                </a:lnTo>
                <a:close/>
              </a:path>
              <a:path fill="darken" w="21600" h="21643">
                <a:moveTo>
                  <a:pt x="12271" y="4007"/>
                </a:moveTo>
                <a:lnTo>
                  <a:pt x="16327" y="7505"/>
                </a:lnTo>
                <a:lnTo>
                  <a:pt x="12271" y="7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n32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3933720"/>
            <a:ext cx="2160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助田さん作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isp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オートメーショ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型フラグとデータによる汎用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ype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オブジェクトの型情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TB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Unknown*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Re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lass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reateInstance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レジスト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S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S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Script Compon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rObj.D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スクリプト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のオブジェク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yi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4653000"/>
            <a:ext cx="2448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付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インストールディレクト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samples\ruby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準備：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svr32 rbobj.w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利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ruby = CreateObject("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uby.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y = ActiveXObject.new ("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uby.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3708360" y="1916280"/>
            <a:ext cx="1042920" cy="50472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4616" h="21600">
                <a:moveTo>
                  <a:pt x="0" y="0"/>
                </a:moveTo>
                <a:lnTo>
                  <a:pt x="44616" y="0"/>
                </a:lnTo>
                <a:lnTo>
                  <a:pt x="44616" y="21600"/>
                </a:lnTo>
                <a:lnTo>
                  <a:pt x="0" y="21600"/>
                </a:lnTo>
                <a:close/>
              </a:path>
              <a:path fill="lightenLess" w="44616" h="21600">
                <a:moveTo>
                  <a:pt x="0" y="0"/>
                </a:moveTo>
                <a:lnTo>
                  <a:pt x="44616" y="0"/>
                </a:lnTo>
                <a:lnTo>
                  <a:pt x="43216" y="1400"/>
                </a:lnTo>
                <a:lnTo>
                  <a:pt x="1400" y="1400"/>
                </a:lnTo>
                <a:close/>
              </a:path>
              <a:path fill="darken" w="44616" h="21600">
                <a:moveTo>
                  <a:pt x="44616" y="0"/>
                </a:moveTo>
                <a:lnTo>
                  <a:pt x="44616" y="21600"/>
                </a:lnTo>
                <a:lnTo>
                  <a:pt x="43216" y="20200"/>
                </a:lnTo>
                <a:lnTo>
                  <a:pt x="43216" y="1400"/>
                </a:lnTo>
                <a:close/>
              </a:path>
              <a:path fill="darkenLess" w="44616" h="21600">
                <a:moveTo>
                  <a:pt x="44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6" y="20200"/>
                </a:lnTo>
                <a:close/>
              </a:path>
              <a:path fill="lighten" w="44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6" h="21600">
                <a:moveTo>
                  <a:pt x="15302" y="3794"/>
                </a:moveTo>
                <a:lnTo>
                  <a:pt x="29315" y="10800"/>
                </a:lnTo>
                <a:lnTo>
                  <a:pt x="15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3440" y="184464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3708360" y="3141720"/>
            <a:ext cx="1042920" cy="51912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19120"/>
              <a:gd name="textAreaBottom" fmla="*/ 485640 h 51912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3" y="3794"/>
                </a:moveTo>
                <a:lnTo>
                  <a:pt x="28696" y="10800"/>
                </a:lnTo>
                <a:lnTo>
                  <a:pt x="146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360" y="299736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B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197000"/>
            <a:ext cx="23036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5516640"/>
            <a:ext cx="4681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1197000"/>
            <a:ext cx="4680000" cy="180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3429000"/>
            <a:ext cx="4681440" cy="20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2997360"/>
            <a:ext cx="4681440" cy="50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ScriptRu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3357720"/>
            <a:ext cx="504720" cy="21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2492280"/>
            <a:ext cx="1081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3789360"/>
            <a:ext cx="1584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: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2781360"/>
            <a:ext cx="0" cy="1008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2492280"/>
            <a:ext cx="1584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BClass: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789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‘VB’=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804000" y="2852640"/>
            <a:ext cx="0" cy="936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373720"/>
            <a:ext cx="62661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3789360"/>
            <a:ext cx="62661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bj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08720" y="2565360"/>
            <a:ext cx="1440000" cy="36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*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2565360"/>
            <a:ext cx="62661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cript18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557360"/>
            <a:ext cx="81378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vcrt-ruby18.dl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1773360"/>
            <a:ext cx="11527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2852640"/>
            <a:ext cx="115272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spat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3284640"/>
            <a:ext cx="0" cy="244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860640"/>
            <a:ext cx="187344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ctiveScriptSit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2852640"/>
            <a:ext cx="1871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ctiveScrip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35280" y="3212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365720"/>
            <a:ext cx="1152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spat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1:52:56Z</dcterms:created>
  <dc:creator>arton</dc:creator>
  <dc:description/>
  <dc:language>en-US</dc:language>
  <cp:lastModifiedBy>arton</cp:lastModifiedBy>
  <dcterms:modified xsi:type="dcterms:W3CDTF">2006-06-09T17:58:50Z</dcterms:modified>
  <cp:revision>51</cp:revision>
  <dc:subject/>
  <dc:title>Rubyize   による言語境界の越え方 </dc:title>
</cp:coreProperties>
</file>